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E1C-E811-465A-B9BE-CE35D034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A2B-898D-4E18-94D4-26FA6CF3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86E-62D0-4584-A224-1CCCA62B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2BA-BA35-455B-BBA4-0AFED6E5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31C-FFAB-47A3-A6BE-193DB849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CF2-4A35-46C0-97D5-B0034F6A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826-69E2-4197-B956-542B93C8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592-7624-454D-AAF3-89824196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FBB-595A-40A6-A2F8-FD2140F3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0A7-B184-46D1-A1E5-5C7ED5C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A33-0F85-40C2-A40C-2005DF69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75-293F-41A2-8FDD-330C1D9E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DC6E-3180-4284-877B-80F5190C8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of metrology legislation in Democratic Republic of Co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nama Viki Mbuya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irector of Metrology &amp;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R C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006 ver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lances &amp; weighing instruments: 16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bridges: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u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quid fuel dispensers: 1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ad tankers and fixed tanks: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: 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ustrial &amp; scientific 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elds of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u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gth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 section in process of accreditation to be completed by en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me, length and force sections not yet sufficiently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ability to South African National Measurement Laboratory (NMIS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pro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has pressing need to be competitive in market for high quality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for calibration of measuring equipment used in manufacturing which has effect on produc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exists particularly in the fields of pressure, temperature, electrical measurements and dimensiona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need to acquire reference and working standards in these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in metrology legislation and regu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ology in DRC suffers from fundamental legal problem fixing main objectives of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nial 1901 Law (updated 1959) still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ed unsuitable for the way in which metrology ha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in metrology legislation and regul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et around difficulties, metrological tasks currently di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rology Directorate of Ministry of Indust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nistrative monitoring (market surveillance) of verifications conducted by Congolese Office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golese Office of Control: verification of measuring instruments used for trade (legal metrology) as well as verification/calibration of measuring instruments used in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golese Office of Control uses OIML Recommendations as normative references for its work, even though not implemented in national technical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IML D 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lements for a law on metrolog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better organisation and better structure its objectives and metrologic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d smooth development during critical stage in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asic metrology law is an important tool in the regulation of metrological activities in a country.  This law takes metrological standards, adapts them to the economic situation of the country and places them in the national administrative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verview of D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uated in Central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: 2 345 000 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ulation: 60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ial language: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al resourc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ld, copper, diamonds, cobalt, natural gas and oil, water, uranium, coffee, rubber, cotton, fish, minerals, timb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jor industri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ng, oil (extraction and refining), agriculture and food processing (margarine, soap, brewing), sawmills, steel foundr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golese Office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body, created in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of the qual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tity and conformity of all products and merchandi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all products and samp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control of all instruments and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s all conformity assessment: inspection, certification of products and personnel, testing and calibration in metr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golese Office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a leading organisation, recognised internationally for supporting efforts in economic development, industrial and social progress in Democratic Republic of Con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 and export insp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certification (including systems and personne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ng (chemistry, microbiology, materials and electrotechnolog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rology (legal and industrial/scientif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ment and organisa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ology since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ic system since 1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 used since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78 UNDP programm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in metrology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bruary 1980: lack of accommodation, qualified personnel, equipment, verification n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il 1980: UNDP expert’s report proposed transfer of metrology activities to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1980, agreement given for transfer of metrology activities to the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uary 1982: collaboration framework between Ministry of National Economy and Industry and the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 responsible for technical aspects of metrology (verification of accur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rology Directorate of the Ministry responsible for administrative surve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in metrolog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 1995: collaboration framework strengthened by declaration signed by the two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6: relations established between Congolese Office of Control and the South African National Metrology Laboratory for traceability to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2: metrology laboratory established within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2003: technical cooperation agreement signed between Congolese Office of Control and South African NML/C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5: metrology laboratory mass section began preparations for accred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gal 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ing instruments verified when used for trade in mass or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ckaged products soon to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technical metrology insp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training to technician level in electromechanical, electronics or mathematics according to OIML D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 whole of D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6:12:40Z</dcterms:created>
  <dc:creator> </dc:creator>
  <dc:description/>
  <dc:language>en-US</dc:language>
  <cp:lastModifiedBy> </cp:lastModifiedBy>
  <dcterms:modified xsi:type="dcterms:W3CDTF">2007-10-23T07:45:37Z</dcterms:modified>
  <cp:revision>2</cp:revision>
  <dc:subject/>
  <dc:title>Issues of metrology legislation in Democratic Republic of Congo</dc:title>
</cp:coreProperties>
</file>