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79640" y="981000"/>
            <a:ext cx="5184720" cy="233424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379440">
              <a:spcBef>
                <a:spcPts val="601"/>
              </a:spcBef>
              <a:spcAft>
                <a:spcPts val="1199"/>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51000" indent="-32868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89200" indent="-3589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0" y="6453360"/>
            <a:ext cx="9144000" cy="404640"/>
          </a:xfrm>
          <a:prstGeom prst="rect">
            <a:avLst/>
          </a:prstGeom>
          <a:solidFill>
            <a:srgbClr val="990033"/>
          </a:solidFill>
          <a:ln w="0">
            <a:noFill/>
          </a:ln>
        </p:spPr>
        <p:txBody>
          <a:bodyPr lIns="216000" rIns="144000" tIns="126000" bIns="0" anchor="t">
            <a:noAutofit/>
          </a:bodyPr>
          <a:lstStyle>
            <a:lvl1pPr indent="0">
              <a:buNone/>
              <a:tabLst>
                <a:tab algn="l" pos="0"/>
                <a:tab algn="l" pos="8520120"/>
              </a:tabLst>
              <a:defRPr b="1" lang="fr-FR" sz="1200" spc="-1" strike="noStrike">
                <a:solidFill>
                  <a:srgbClr val="ffffff"/>
                </a:solidFill>
                <a:latin typeface="Arial"/>
              </a:defRPr>
            </a:lvl1pPr>
          </a:lstStyle>
          <a:p>
            <a:pPr indent="0">
              <a:buNone/>
              <a:tabLst>
                <a:tab algn="l" pos="0"/>
                <a:tab algn="l" pos="8520120"/>
              </a:tabLst>
            </a:pPr>
            <a:r>
              <a:rPr b="1" lang="fr-FR" sz="1200" spc="-1" strike="noStrike">
                <a:solidFill>
                  <a:srgbClr val="ffffff"/>
                </a:solidFill>
                <a:latin typeface="Arial"/>
              </a:rPr>
              <a:t>Shanghai, P.R. China, 23 October 2007</a:t>
            </a:r>
            <a:r>
              <a:rPr b="1" lang="fr-FR" sz="1200" spc="-1" strike="noStrike">
                <a:solidFill>
                  <a:srgbClr val="ffffff"/>
                </a:solidFill>
                <a:latin typeface="Arial"/>
              </a:rPr>
              <a:t>	</a:t>
            </a:r>
            <a:fld id="{AC2706A1-9ACB-441E-A2F4-2BA6D17BEE7F}"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 name=""/>
          <p:cNvSpPr/>
          <p:nvPr/>
        </p:nvSpPr>
        <p:spPr>
          <a:xfrm>
            <a:off x="0" y="0"/>
            <a:ext cx="9144000" cy="9810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 1 Seminar</a:t>
            </a:r>
            <a:endParaRPr b="0" lang="en-US" sz="2400" spc="-1" strike="noStrike">
              <a:solidFill>
                <a:srgbClr val="000000"/>
              </a:solidFill>
              <a:latin typeface="Arial"/>
            </a:endParaRPr>
          </a:p>
        </p:txBody>
      </p:sp>
      <p:pic>
        <p:nvPicPr>
          <p:cNvPr id="4" name="" descr=""/>
          <p:cNvPicPr/>
          <p:nvPr/>
        </p:nvPicPr>
        <p:blipFill>
          <a:blip r:embed="rId2"/>
          <a:stretch/>
        </p:blipFill>
        <p:spPr>
          <a:xfrm>
            <a:off x="179280" y="123840"/>
            <a:ext cx="863640" cy="747720"/>
          </a:xfrm>
          <a:prstGeom prst="rect">
            <a:avLst/>
          </a:prstGeom>
          <a:ln w="0">
            <a:noFill/>
          </a:ln>
        </p:spPr>
      </p:pic>
      <p:pic>
        <p:nvPicPr>
          <p:cNvPr id="5" name="" descr=""/>
          <p:cNvPicPr/>
          <p:nvPr/>
        </p:nvPicPr>
        <p:blipFill>
          <a:blip r:embed="rId3"/>
          <a:stretch/>
        </p:blipFill>
        <p:spPr>
          <a:xfrm>
            <a:off x="7164360" y="0"/>
            <a:ext cx="1979640" cy="1484280"/>
          </a:xfrm>
          <a:prstGeom prst="rect">
            <a:avLst/>
          </a:prstGeom>
          <a:ln w="0">
            <a:noFill/>
          </a:ln>
        </p:spPr>
      </p:pic>
      <p:sp>
        <p:nvSpPr>
          <p:cNvPr id="6" name=""/>
          <p:cNvSpPr/>
          <p:nvPr/>
        </p:nvSpPr>
        <p:spPr>
          <a:xfrm>
            <a:off x="0" y="981000"/>
            <a:ext cx="197964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9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D 1, how to use it</a:t>
            </a:r>
            <a:endParaRPr b="0" lang="en-US" sz="3600" spc="-1" strike="noStrike">
              <a:solidFill>
                <a:srgbClr val="000000"/>
              </a:solidFill>
              <a:latin typeface="Arial"/>
            </a:endParaRPr>
          </a:p>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ean-François Maga</a:t>
            </a:r>
            <a:r>
              <a:rPr b="0" i="1" lang="en-US" sz="2400" spc="-1" strike="noStrike">
                <a:solidFill>
                  <a:srgbClr val="000000"/>
                </a:solidFill>
                <a:latin typeface="Arial"/>
                <a:ea typeface="Arial"/>
              </a:rPr>
              <a:t>ñ</a:t>
            </a:r>
            <a:r>
              <a:rPr b="0" i="1" lang="en-US" sz="2400" spc="-1" strike="noStrike">
                <a:solidFill>
                  <a:srgbClr val="000000"/>
                </a:solidFill>
                <a:latin typeface="Arial"/>
              </a:rPr>
              <a:t>a, BIML Dir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e 60's, the metre was defined as a multiple of the wavelength in the vacuum,of the radiation emitted between two levels of an ato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w the metre is defined as a distance runned by light in the vacuum in a given fraction of a secon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ll we ask the Parliament to discuss and to vote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bmitting scientific or technical details to the Parliament is the best way to bore the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 in any case, you know what you send to the Parliament, you never know what will come ou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ill they vote or amend the laws of Physics ? This occured in the 19th Centur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et general principles, obligations, general criteria of exemptions, it should define the powers, responsibilities, penalties, and the mechanisms for funding,</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legate technical details to administrative regulations (government acts, ministerial acts, technical decisions of appropriate bo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ample : Legal Units</a:t>
            </a:r>
            <a:endParaRPr b="1"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fine Legal Units a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SI as defined by the Metre Convention bodies (Treaties have a higher statute than laws), and if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ustomary Units, subject to certain criteria concerning their necess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then charge an authority to keep all this updated and to publish all necessary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ther example: Traceability</a:t>
            </a:r>
            <a:endParaRPr b="1"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ay that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should be traceability to SI,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rough realizations of the SI Units, in the country or in other countrie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cceptable routes for traceability to realizations of the SI Units are defined by a decision of a designated author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also say that in all existing laws and regulations, any requirement for traceability to national standards is replaced by these pro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ed to consult lawyers</a:t>
            </a:r>
            <a:endParaRPr b="1"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comply with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needs a careful analysis by appropriate specialists of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a special jurisdiction is competent to examine such constitutional problems. This jurisdiction should be consulted and should be very active in the preparation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en revising the French Government act on legal metrology, it was envisaged to say tha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ing instruments of Class IIII used in trade should be limited to products of unit price under a certain limit. Above this limit, Class III should be use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rding to the Constitution, this would have needed a law, a Government act could authorize or forbid Class IIII, but not limit its use. If sand can be sold with Class IIII instruments, gold can also be sold with Class IIII instru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tunately no one would buy gold under these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or weights and measures are sometimes mentioned in the Constitu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ay be a prerogative of States and not fall under Federa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is case the law should only address what the Constitution allows it to add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icity of metrology</a:t>
            </a:r>
            <a:endParaRPr b="1" lang="en-US" sz="2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a whole.</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very close cooperation between scientific metrology and legal metrology is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single institute is advisable, providing that both branches of metrology are treated with equit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th missions and their specialists should be paid the same atten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two institutes exist, they should have tight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issues</a:t>
            </a:r>
            <a:endParaRPr b="1"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globalizing, at Regional and international level.</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TO TBT and SPS Agreements call their signatories to cooperate in the different international standard-setting activities and in the different international acceptance and recognition system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formally authorize the authorities and institutes to run such cooperations and to participate in these international acceptance and recognition sc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pends 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wareness and the commitment of the Minister who presents this law,</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is influence in the Governmen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operation with other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eds a </a:t>
            </a:r>
            <a:r>
              <a:rPr b="1" lang="fr-FR" sz="2400" spc="-1" strike="noStrike">
                <a:solidFill>
                  <a:srgbClr val="000000"/>
                </a:solidFill>
                <a:latin typeface="Arial"/>
              </a:rPr>
              <a:t>good preliminary concertation</a:t>
            </a:r>
            <a:r>
              <a:rPr b="0" lang="fr-FR" sz="2400" spc="-1" strike="noStrike">
                <a:solidFill>
                  <a:srgbClr val="000000"/>
                </a:solidFill>
                <a:latin typeface="Arial"/>
              </a:rPr>
              <a:t> with all concerned Depar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in Legal Metrolog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ndings about infringements are the responsibility of State offic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iding penalties is the responsibility of judicial authorities (under a certain level it may be administrative penaltie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cannot be privat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rd part private bodies may be authorized to assess and declare the conformity of measuring instruments or of measuremen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responsibility must be very clea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competence and impartiality must be guarante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liabl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controlled and supervis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remaining responsibility of the owner and user of the instrument must be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ond party conformity assessment may also be considered (manufacturer's declaration of conformit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ditions must be carefully studi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ropriate supervision and surveillance must be exe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 a conclusion, in all cases, the national legal metrology authority must keep a good command and control of the whole legal metrology system and of its efficiency, with regards to the objectives of legal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uthorities in charge of metrology must be able to report on the results of their policy and of their action, before the Government and before the Parli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the difference of the old version of D 1, the present document is not anymore a "Mode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1 gives a number of possible provisions which have to be discussed with all stakeholders and with legal adviso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 essential phase is the concertation that should be done before writing a draft law. During this concertation, two phases should be carried ou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lanations about metrology and about the need for a better metrology infrastructur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scussion about the options to sel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IML and the BIML will do all efforts to bring support to countries who start such a national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Legal Metrology Organizations will probably also be ready to bring such suppor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number of work projects are being envisaged in the OIML to elaborate publications addressing specific issues such as which consistent set of conformity assessment procedures for legal metrology may be considered by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Thank you for your attention.</a:t>
            </a:r>
            <a:endParaRPr b="0" lang="en-US" sz="4000" spc="-1" strike="noStrike">
              <a:solidFill>
                <a:srgbClr val="000000"/>
              </a:solidFill>
              <a:latin typeface="Arial"/>
            </a:endParaRPr>
          </a:p>
          <a:p>
            <a:pPr indent="0">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ider, the bes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may be limited, for example to Weights and Measures Control, </a:t>
            </a:r>
            <a:endParaRPr b="0" lang="en-US" sz="2400" spc="-1" strike="noStrike">
              <a:solidFill>
                <a:srgbClr val="000000"/>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ts and Measures control may cover only a number of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wever it must be reminded that a </a:t>
            </a:r>
            <a:r>
              <a:rPr b="1" lang="fr-FR" sz="2400" spc="-1" strike="noStrike">
                <a:solidFill>
                  <a:srgbClr val="000000"/>
                </a:solidFill>
                <a:latin typeface="Arial"/>
              </a:rPr>
              <a:t>consistent</a:t>
            </a:r>
            <a:r>
              <a:rPr b="0" lang="fr-FR" sz="2400" spc="-1" strike="noStrike">
                <a:solidFill>
                  <a:srgbClr val="000000"/>
                </a:solidFill>
                <a:latin typeface="Arial"/>
              </a:rPr>
              <a:t> system should include </a:t>
            </a:r>
            <a:r>
              <a:rPr b="1" lang="fr-FR" sz="2400" spc="-1" strike="noStrike">
                <a:solidFill>
                  <a:srgbClr val="000000"/>
                </a:solidFill>
                <a:latin typeface="Arial"/>
              </a:rPr>
              <a:t>all components</a:t>
            </a:r>
            <a:r>
              <a:rPr b="0" lang="fr-FR" sz="2400" spc="-1" strike="noStrike">
                <a:solidFill>
                  <a:srgbClr val="000000"/>
                </a:solidFill>
                <a:latin typeface="Arial"/>
              </a:rPr>
              <a:t> of metrolog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finition of Uni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Metrology Institute, national references and research,</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transfer to us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ole of accredita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ulations on measurements and on measuring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Departments interested in metrology and in measurements should be consulted and should participate in the preparation of the law:</a:t>
            </a:r>
            <a:endParaRPr b="0" lang="en-US" sz="24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earch and Technolog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mestic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ernal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umer protection,</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afety of products, road safet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griculture and Food</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ealth,</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vironment,</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onomy and financ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these Departments should be convinced tha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law will benefit to their mission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will not lose any powe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will improve the efficiency of the economy and facilitate their work,</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rganization set up by the law will not add unacceptable costs to the State budge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sts for stakeholders (industry, agriculture, consumers, etc.) will not be unaccep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 this, an </a:t>
            </a:r>
            <a:r>
              <a:rPr b="1" lang="fr-FR" sz="2400" spc="-1" strike="noStrike">
                <a:solidFill>
                  <a:srgbClr val="000000"/>
                </a:solidFill>
                <a:latin typeface="Arial"/>
              </a:rPr>
              <a:t>interministerial Seminar on Metrology</a:t>
            </a:r>
            <a:r>
              <a:rPr b="0" lang="fr-FR" sz="2400" spc="-1" strike="noStrike">
                <a:solidFill>
                  <a:srgbClr val="000000"/>
                </a:solidFill>
                <a:latin typeface="Arial"/>
              </a:rPr>
              <a:t>, addressed to the appropriate technical services of the different ministries, could be useful:</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stakes of metrology,</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the weaknesses of the present situation,</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examples from other countries,</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work of the Regional and International Organizations in the field of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concertation should be approved and encouraged at the level of the 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decision to draw up a new Law should result from this concertation and should be approved at Governmental level (typically by a decision of the Council of Ministe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intended scope of the law to prepare will result from this concertation and should be agreed by the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lements of D 1 which will be used result from this concertation and from legal aspects described fur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f course an autoritary decision of the Head of the State, of the Parliament or of a Commission of the Parliament may be taken without such a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in this case a lack of cooperation of different ministries would be probable and this would compromise the success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05:23:21Z</dcterms:created>
  <dc:creator>Magana</dc:creator>
  <dc:description/>
  <dc:language>en-US</dc:language>
  <cp:lastModifiedBy>Magana</cp:lastModifiedBy>
  <dcterms:modified xsi:type="dcterms:W3CDTF">2007-10-20T08:10:09Z</dcterms:modified>
  <cp:revision>12</cp:revision>
  <dc:subject/>
  <dc:title>Diapositive 1</dc:title>
</cp:coreProperties>
</file>