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688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4124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688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4124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2160" y="404640"/>
            <a:ext cx="6913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6688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4124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216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6688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34124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404640"/>
            <a:ext cx="6913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2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000" y="279360"/>
            <a:ext cx="9006120" cy="649440"/>
          </a:xfrm>
          <a:prstGeom prst="rect">
            <a:avLst/>
          </a:prstGeom>
          <a:solidFill>
            <a:srgbClr val="07b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381720"/>
            <a:ext cx="3297240" cy="476280"/>
          </a:xfrm>
          <a:prstGeom prst="rect">
            <a:avLst/>
          </a:prstGeom>
          <a:solidFill>
            <a:srgbClr val="07b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ffffff"/>
                </a:solidFill>
                <a:latin typeface="Palatino Linotype"/>
              </a:rPr>
              <a:t>Prof. Dr. Manfred Kochsi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44000" y="651024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27D6-4F09-4455-B296-402D48C6A7E2}" type="slidenum">
              <a:rPr b="1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/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1"/>
          </p:nvPr>
        </p:nvSpPr>
        <p:spPr>
          <a:xfrm>
            <a:off x="3219480" y="7696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9080" y="6419880"/>
            <a:ext cx="46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-Technische Bundesanst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-360" y="61707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21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29600" y="6330960"/>
            <a:ext cx="895320" cy="52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905120"/>
            <a:ext cx="4953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3800" y="1628280"/>
            <a:ext cx="6121080" cy="3311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Palatino Linotype"/>
              </a:rPr>
              <a:t>Proposal of regulations for 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Palatino Linotype"/>
              </a:rPr>
              <a:t>(legal) metrology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42</a:t>
            </a:r>
            <a:r>
              <a:rPr b="1" lang="de-DE" sz="2000" spc="-1" strike="noStrike" baseline="30000">
                <a:solidFill>
                  <a:srgbClr val="cc3300"/>
                </a:solidFill>
                <a:latin typeface="Palatino Linotype"/>
              </a:rPr>
              <a:t>nd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CIML Meeting, Shanghai,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2007-10-23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cc3300"/>
                </a:solidFill>
                <a:latin typeface="Palatino Linotype"/>
              </a:rPr>
              <a:t>Manfred Kochsiek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, Nguyen Hung Diep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8160" y="476280"/>
            <a:ext cx="5905440" cy="317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</a:t>
            </a:r>
            <a:r>
              <a:rPr b="0" lang="de-DE" sz="2000" spc="-1" strike="noStrike">
                <a:solidFill>
                  <a:srgbClr val="ffffff"/>
                </a:solidFill>
                <a:latin typeface="Palatino Linotype"/>
              </a:rPr>
              <a:t> 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52520" y="980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Order of laws, decrees, standards for organizing th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4160" y="1916280"/>
            <a:ext cx="2232000" cy="143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Binding </a:t>
            </a:r>
            <a:r>
              <a:rPr b="0" lang="en-GB" sz="1400" spc="-1" strike="noStrike">
                <a:solidFill>
                  <a:srgbClr val="0000ff"/>
                </a:solidFill>
                <a:latin typeface="Palatino Linotype"/>
              </a:rPr>
              <a:t>regulations</a:t>
            </a: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technical and other ba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on IML Recommendati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ISO/IEC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24160" y="3716280"/>
            <a:ext cx="2160720" cy="1584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on international, 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5600" y="2205000"/>
            <a:ext cx="1727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Administrative regul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inclu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technical reg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6880" y="4005360"/>
            <a:ext cx="16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Generally recogniz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technical r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(e.g. Kiel collec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00880" y="2852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00880" y="4508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76520" y="141300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in Vietnam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´s Ordinance of metrology, No. 16/1999/PL-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UBTVQH10 approved by Standing Committee of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 National Assembly and promulgated by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‘s Predident in year 1999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   12 additional decrees, decisions and circular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   100 technical regulation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60520" y="141300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Aim for the fu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  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A new Law on metrology for Vietnam will be upgraded from above mentioned Ordinance of Metrolog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♦ 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taking into account the developments of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the last years and the experience in the field of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metrology in some other countries in Europe and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Asia,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♦ 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facing the future (privatization, accreditation,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systems  of instruments, software, …)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792520" y="1413000"/>
            <a:ext cx="6697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Headlines/Articles for a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Law on Metrology on the basis of OIML D 1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Aim/subject of the Law on metrolo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2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efinit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3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trology infrastructure/</a:t>
            </a:r>
            <a:br>
              <a:rPr sz="1600"/>
            </a:b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  National metrology policy/strate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4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trology Institute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5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asurement standard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6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Legal units of measuremen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7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Legal metrolo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8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Status of regulations on decrees/ordina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9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Requirement for measuring instrument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0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Fees/financial provis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1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Offe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2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Fines/penalti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3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Coming into force/transition period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144520" y="1052280"/>
            <a:ext cx="7345080" cy="504036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1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Aim/subject of the Law on metrology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Field of application: 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o provide the legal base and empowerments for detailed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gulations in decrees, ordinances, …</a:t>
            </a:r>
            <a:br>
              <a:rPr sz="1400"/>
            </a:b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2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Definitions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nly main and important definitions like measurement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instruments, measurement standards, national metrology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institutions should be mentioned, reference to VIM and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IML VIML. If possible, a sentence such as „For terms not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defined here the definition given in the VIM or VIML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spectively shall apply”.</a:t>
            </a:r>
            <a:br>
              <a:rPr sz="1400"/>
            </a:b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3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infrastructure/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policy/strategy like: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upport national industry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Consumer protection, environmental protec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International recogni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Fair trad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15800" y="1125000"/>
            <a:ext cx="7273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Palatino Linotype"/>
              </a:rPr>
              <a:t>4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Institute (and others entrusted with th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realization of national measurement standards not availabl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at the NMI)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Tasks, organiz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5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asurement standard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Traceability chain (SI system or equivalent) or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Certified Reference Materials</a:t>
            </a:r>
            <a:br>
              <a:rPr sz="1600"/>
            </a:b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6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Legal units of measuremen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SI, not covered by SI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Multiples and subdivisions, writing, applic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Use of non legal units in historical documents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 and specified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areas (see OIML, D 1, III, 3)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9240" y="1125000"/>
            <a:ext cx="720072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7. 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Legal metrology</a:t>
            </a:r>
            <a:br>
              <a:rPr sz="1800"/>
            </a:b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rganization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Bodies in legal metrology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gulation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Applications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Market inspection / surveillanc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Prepackag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pecial items like precious metal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Marking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tamps, seal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sponsibility and powers (see OIML, D 1, VI, 4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Liability of persons and corporate bodies (see OIML, D 1,VI, 2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8. 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Status of regulations on decrees/ordinanc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ncerning organiza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Essential requirement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operation with other countri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99800" y="1125000"/>
            <a:ext cx="7489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 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9. Requirement</a:t>
            </a: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 for measuring instrument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ype approval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Initial and subsequent conformity of instrument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(Initial and subsequent verification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Conformity assessment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In service inspection, market inspec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Field surveillanc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Withdrawal from us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List of measuring instruments is subject to legal regulations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(or field of application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0. Fees/financial provisions</a:t>
            </a: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Different principles: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1.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st recovering system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2.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ubsidized system because of a  governmental decision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o provide consumer protection free of charg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3. 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Mixture of system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15800" y="1125000"/>
            <a:ext cx="7273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1. Offe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The paragraphs must be mentioned explicitely,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the non-observation of which will be penalized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2. Fines/penalti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Should be severe enough in order to prevent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repetition Publication of offenders could be a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useful means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3. Coming into force/transition period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Should be long enough to avoid unacceptable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high</a:t>
            </a: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 financial losses and/or to allow for adequate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adaptation to the new regulations.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49240" y="1125000"/>
            <a:ext cx="684036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Times New Roman"/>
              </a:rPr>
              <a:t>Results of my reflections (1)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National laws of metrology are unique and must always be seen in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relation to national condit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An outside consultant cannot define this law in detail, it needs nativ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metrologists and lawyer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82d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The Law on metrology should be made as short as possible because it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needs the Parliament to change i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All necessary information and regulations, which are not defined in th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Law, should be defined in decrees, circulars, …which normally com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under the responsibility of the  Ministr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For binding technical</a:t>
            </a: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regulations OIML Recommendations should b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used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60520" y="162864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With D 1 „Elements for a Law on Metrology“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OIML established a guidelin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Special situation in Europe: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Members of EU have to follow European Directives like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- MID - Measurement Instrument Directive,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(2004/22/EEC)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- Non-automatic weighing Instrument Directive  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(</a:t>
            </a: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90/384/EEC)</a:t>
            </a:r>
            <a:br>
              <a:rPr sz="2000"/>
            </a:b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 - Medical Devices Direcive (MDD)</a:t>
            </a:r>
            <a:br>
              <a:rPr sz="2000"/>
            </a:b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 - …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1052640"/>
            <a:ext cx="54007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tod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Law on Metrology is a nationa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431800" y="1125000"/>
            <a:ext cx="7057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Results of my reflections (2)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evertheless the OIML should give an example  for minimum regulations more detailed.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This might be an outcome of today´s seminar.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1800" y="1125000"/>
            <a:ext cx="7057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Palatino Linotype"/>
              </a:rPr>
              <a:t>Thank for your attention</a:t>
            </a: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manfred.kochsiek@ptb.d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15800" y="1773000"/>
            <a:ext cx="6770520" cy="381636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Reasons: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Different history of legal metrolog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Obligatory calibration of measuring instrument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Involvement of private service provider in type                                                            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approval and verification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Central or federal system (e.g. USA, Germany)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approval (= federal), verification (= states)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Organization of 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6520" y="1268280"/>
            <a:ext cx="6696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The national Laws on metrology are all different, </a:t>
            </a:r>
            <a:br>
              <a:rPr sz="1800"/>
            </a:b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even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44520" y="1484280"/>
            <a:ext cx="7345080" cy="41054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Most of the democratic states have the model of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eparation of powers established in their constitution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is model comprises mainly 3 branches: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Executiv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Legislativ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Judicial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ue to time constraints it is not possible to deal with this model in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etail, therefore in the following it is summarized in one branch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5329440" cy="5763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36520" y="105264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Order of laws, decrees, standards for organizing the 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4520" y="177156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Law on 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4520" y="2995560"/>
            <a:ext cx="1727280" cy="93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quirements for orga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zation, 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4520" y="422100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Binding regul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technical</a:t>
            </a: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 and other based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OIML Recommend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ISO/IEC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4520" y="544500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n internati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6880" y="2708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76880" y="3932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5156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36520" y="112536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Order of laws, decrees, standards for organizing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71920" y="2492280"/>
            <a:ext cx="2805120" cy="1871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Palatino Linotype"/>
              </a:rPr>
              <a:t>Law on Metr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8880" y="2924280"/>
            <a:ext cx="1511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Scope of OIML D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18280" y="2924280"/>
            <a:ext cx="210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Parliamen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General Assembly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Prime 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4880" y="404640"/>
            <a:ext cx="584820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07800" y="1125360"/>
            <a:ext cx="7289640" cy="648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Times New Roman"/>
              </a:rPr>
              <a:t>Order of laws, decrees, standards for organizing th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Times New Roman"/>
              </a:rPr>
              <a:t>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0" y="1989000"/>
            <a:ext cx="1800360" cy="122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quirement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rganiz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0" y="3500280"/>
            <a:ext cx="1800360" cy="107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Binding </a:t>
            </a:r>
            <a:r>
              <a:rPr b="0" lang="en-GB" sz="1200" spc="-1" strike="noStrike">
                <a:solidFill>
                  <a:srgbClr val="0000ff"/>
                </a:solidFill>
                <a:latin typeface="Palatino Linotype"/>
              </a:rPr>
              <a:t>regulations</a:t>
            </a: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technical and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based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IML Recommendations</a:t>
            </a: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ISO/IEC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0" y="4869000"/>
            <a:ext cx="1800360" cy="1152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n internati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89440" y="2060640"/>
            <a:ext cx="1727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Empowerments in the la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used by Responsible Minis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for detailed reg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to be observed by manufacture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users of 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2"/>
            <a:endCxn id="111" idx="0"/>
          </p:cNvCxnSpPr>
          <p:nvPr/>
        </p:nvCxnSpPr>
        <p:spPr>
          <a:xfrm>
            <a:off x="4140000" y="4579560"/>
            <a:ext cx="1080" cy="28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0" idx="0"/>
          </p:cNvCxnSpPr>
          <p:nvPr/>
        </p:nvCxnSpPr>
        <p:spPr>
          <a:xfrm>
            <a:off x="4140000" y="3211560"/>
            <a:ext cx="1080" cy="28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832360" y="3429000"/>
            <a:ext cx="16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Issued by legal metr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uthorit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mainly for the e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gencies (verification 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reporting, conformity assess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4940280"/>
            <a:ext cx="15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s “guidelines”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conformity assessment”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testing, manufacturing,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4720" y="2565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4720" y="4076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720" y="54450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7640" y="3716280"/>
            <a:ext cx="16484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I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7600" y="5326200"/>
            <a:ext cx="135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e.g. ISO 17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05016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2160" y="1483920"/>
            <a:ext cx="7634160" cy="28908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 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in Germany toda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4005360"/>
            <a:ext cx="1800360" cy="1222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requirements for organ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zation, procedure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measuring instru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8320" y="2276640"/>
            <a:ext cx="1726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Verification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under revision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Units Act and Time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will be merg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61240" y="4005360"/>
            <a:ext cx="165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Verification Ord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23 Appendi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13240" y="2924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3240" y="4581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97240" y="2205000"/>
            <a:ext cx="1871640" cy="129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Palatino Linotype"/>
              </a:rPr>
              <a:t>Law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Palatino Linotype"/>
              </a:rPr>
              <a:t>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80880" y="1341360"/>
            <a:ext cx="5472360" cy="395928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3300"/>
                </a:solidFill>
                <a:latin typeface="Palatino Linotype"/>
              </a:rPr>
              <a:t>These are: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Length measuring instruments (MID)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rea measuring instruments (MID)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for non-liquid products (---)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4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for liquids at rest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5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olume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devic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for liquids other than water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6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 for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running water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7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Gas meters 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8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Weights (OIML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9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Non-automatic weighing instruments (NSW-RL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0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utomatic weighing instruments 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Measuring instruments for cereals and oleaginous fruit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olume measuring instruments for laboratory purpose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Density measuring instrument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4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emperature measuring instrument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5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dical measuring instruments (cancelled)</a:t>
            </a:r>
            <a:br>
              <a:rPr sz="800"/>
            </a:b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now Medical devices having a measuring function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in accordance with the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prescriptions of the Medical</a:t>
            </a:r>
            <a:r>
              <a:rPr b="0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Devices Users Ordinance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DD*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6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yre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pressure measuring instrument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7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easuring intruments for use in dairying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8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use in traffic (at the moment 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9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ime meters/stop watch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0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Electricity meters (MID)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Sound level meter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thermal energy, warm and hot water </a:t>
            </a:r>
            <a:br>
              <a:rPr sz="800"/>
            </a:b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ters for heat exchanger circuits (MID)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use in r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adiation protection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* MDD    =   </a:t>
            </a: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Directive on Medical Products</a:t>
            </a:r>
            <a:endParaRPr b="1" lang="en-US" sz="9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981000"/>
            <a:ext cx="7230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de-DE" sz="1600" spc="-1" strike="noStrike">
                <a:solidFill>
                  <a:srgbClr val="cc3300"/>
                </a:solidFill>
                <a:latin typeface="Times New Roman"/>
              </a:rPr>
              <a:t>Verification ordinance – General Regulations- with appendic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6:42:22Z</dcterms:created>
  <dc:creator>Sandra Saewert-Faller</dc:creator>
  <dc:description/>
  <dc:language>en-US</dc:language>
  <cp:lastModifiedBy>建河租赁</cp:lastModifiedBy>
  <cp:lastPrinted>2004-04-23T09:42:14Z</cp:lastPrinted>
  <dcterms:modified xsi:type="dcterms:W3CDTF">2007-10-22T07:03:39Z</dcterms:modified>
  <cp:revision>176</cp:revision>
  <dc:subject/>
  <dc:title>Folie 1</dc:title>
</cp:coreProperties>
</file>