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666-450D-470E-89F7-51CC8F9E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EB3-4496-4FC1-9F1A-6E3DB8A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306-B1EE-4A2B-84AF-2143471A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CD4-DDA1-4E9A-B461-923C9FF4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4E80-7435-4E7A-9132-5043E06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EAF-E5BB-48A7-B524-D1C7332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122-6D0A-45C3-A7C3-3F417B9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C0E-5247-41D6-8238-A1990F7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DC5-FECD-4E02-B307-4CD374EA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FD5-16EC-4758-A6FA-D8F6D1E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9D8-6EB1-4D46-AC6E-B4249BA0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D26-9E48-462D-A680-6F46CB3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1C46-C041-4655-B838-BFA5AD6F8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of metrology legislation in Democratic Republic of Co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nama Viki Mbuya</a:t>
            </a:r>
            <a:br>
              <a:rPr sz="2800"/>
            </a:br>
            <a:br>
              <a:rPr sz="2800"/>
            </a:b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irector of Metrology &amp;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DR C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6 verif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lances &amp; weighing instruments: 16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bridges: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olu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quid fuel dispensers: 12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ad tankers and fixed tanks: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s: 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ustrial &amp; scientific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elds of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ss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olu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gth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 section in process of accreditation to be completed by en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me, length and force sections not yet sufficiently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ceability to South African National Measurement Laboratory (NMIS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prosp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ustry has pressing need to be competitive in market for high quality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for calibration of measuring equipment used in manufacturing which has effect on product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exists particularly in the fields of pressure, temperature, electrical measurements and dimensional 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need to acquire reference and working standards in these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in DRC suffers from fundamental legal problem fixing main objectives of the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onial 1901 Law (updated 1959) still i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idered unsuitable for the way in which metrology ha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ssues in metrology legislation and regul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get around difficulties, metrological tasks currently div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Ministry of Industr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ministrative monitoring (market surveillance) of verifications conducted by Congolese Office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golese Office of Control: verification of measuring instruments used for trade (legal metrology) as well as verification/calibration of measuring instruments used in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golese Office of Control uses OIML Recommendations as normative references for its work, even though not implemented in national technical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IML D 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lements for a law on metrolog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better organisation and better structure its objectives and metrolog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d smooth development during critical stage in re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asic metrology law is an important tool in the regulation of metrological activities in a country.  This law takes metrological standards, adapts them to the economic situation of the country and places them in the national administrativ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verview of D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uated in Central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: 2 345 000 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pulation: 60 0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icial language: Fre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ural resourc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ld, copper, diamonds, cobalt, natural gas and oil, water, uranium, coffee, rubber, cotton, fish, minerals, ti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jor industrie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ng, oil (extraction and refining), agriculture and food processing (margarine, soap, brewing), sawmills, steel foundri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blic body, created in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of the qua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ntity and conformity of all products and merchandi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all products and samp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cal control of all instruments and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vers all conformity assessment: inspection, certification of products and personnel, testing and calibration in metr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golese Office of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a leading organisation, recognised internationally for supporting efforts in economic development, industrial and social progress in Democratic Republic of Con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 and export insp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 certification (including systems and personne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 (chemistry, microbiology, materials and electrotechnolog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rology (legal and industrial/scient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ment and organisatio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f metr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ology since coloni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ric system since 19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 used since 195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978 UNDP programm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bruary 1980: lack of accommodation, qualified personnel, equipment, verification n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ril 1980: UNDP expert’s report proposed transfer of metrology activities to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1980, agreement given for transfer of metrology activities to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y 1982: collaboration framework between Ministry of National Economy and Industry and the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C responsible for technical aspects of metrology (verification of accurac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rology Directorate of the Ministry responsible for administrative 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s in metrolog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e 1995: collaboration framework strengthened by declaration signed by the two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996: relations established between Congolese Office of Control and the South African National Metrology Laboratory for traceability to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2: metrology laboratory established within Congolese Office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2003: technical cooperation agreement signed between Congolese Office of Control and South African NML/C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05: metrology laboratory mass section began preparations for accred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gal met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ing instruments verified when used for trade in mass or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ckaged products soon to be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technical metrology insp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training to technician level in electromechanical, electronics or mathematics according to OIML D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 whole of D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6:12:40Z</dcterms:created>
  <dc:creator> </dc:creator>
  <dc:description/>
  <dc:language>en-US</dc:language>
  <cp:lastModifiedBy> </cp:lastModifiedBy>
  <dcterms:modified xsi:type="dcterms:W3CDTF">2007-10-23T07:45:37Z</dcterms:modified>
  <cp:revision>2</cp:revision>
  <dc:subject/>
  <dc:title>Issues of metrology legislation in Democratic Republic of Congo</dc:title>
</cp:coreProperties>
</file>