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2160" y="36964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30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6688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4124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216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6688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4124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2160" y="404640"/>
            <a:ext cx="69134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30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2160" y="36964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530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66688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341240" y="12682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216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66688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341240" y="3696480"/>
            <a:ext cx="159444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2160" y="404640"/>
            <a:ext cx="69134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30160" y="36964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2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30160" y="1268280"/>
            <a:ext cx="24166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2160" y="3696480"/>
            <a:ext cx="4952880" cy="22172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2160" y="1268280"/>
            <a:ext cx="4952880" cy="46483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2d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000" y="279360"/>
            <a:ext cx="9006120" cy="649440"/>
          </a:xfrm>
          <a:prstGeom prst="rect">
            <a:avLst/>
          </a:prstGeom>
          <a:solidFill>
            <a:srgbClr val="07b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0160" y="6381720"/>
            <a:ext cx="3297240" cy="476280"/>
          </a:xfrm>
          <a:prstGeom prst="rect">
            <a:avLst/>
          </a:prstGeom>
          <a:solidFill>
            <a:srgbClr val="07b1f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ffffff"/>
                </a:solidFill>
                <a:latin typeface="Palatino Linotype"/>
              </a:rPr>
              <a:t>Prof. Dr. Manfred Kochsi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44000" y="651024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AD80-819B-4DC2-8B75-F45963672CD5}" type="slidenum">
              <a:rPr b="1" lang="fr-F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/ 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1"/>
          </p:nvPr>
        </p:nvSpPr>
        <p:spPr>
          <a:xfrm>
            <a:off x="3219480" y="7696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19080" y="6419880"/>
            <a:ext cx="46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hysikalisch-Technische Bundesanst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-360" y="61707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533520"/>
          </a:xfrm>
          <a:prstGeom prst="rect">
            <a:avLst/>
          </a:prstGeom>
          <a:noFill/>
          <a:ln w="0">
            <a:noFill/>
          </a:ln>
        </p:spPr>
        <p:txBody>
          <a:bodyPr lIns="216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29600" y="6330960"/>
            <a:ext cx="895320" cy="52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1905120"/>
            <a:ext cx="4953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23800" y="1628280"/>
            <a:ext cx="6121080" cy="3311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3300"/>
                </a:solidFill>
                <a:latin typeface="Palatino Linotype"/>
              </a:rPr>
              <a:t>Proposal of regulations for 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3300"/>
                </a:solidFill>
                <a:latin typeface="Palatino Linotype"/>
              </a:rPr>
              <a:t>(legal) metrology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42</a:t>
            </a:r>
            <a:r>
              <a:rPr b="1" lang="de-DE" sz="2000" spc="-1" strike="noStrike" baseline="30000">
                <a:solidFill>
                  <a:srgbClr val="cc3300"/>
                </a:solidFill>
                <a:latin typeface="Palatino Linotype"/>
              </a:rPr>
              <a:t>nd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CIML Meeting, Shanghai,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2007-10-23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cc3300"/>
                </a:solidFill>
                <a:latin typeface="Palatino Linotype"/>
              </a:rPr>
              <a:t>Manfred Kochsiek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, Nguyen Hung Diep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08160" y="476280"/>
            <a:ext cx="5905440" cy="317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</a:t>
            </a:r>
            <a:r>
              <a:rPr b="0" lang="de-DE" sz="2000" spc="-1" strike="noStrike">
                <a:solidFill>
                  <a:srgbClr val="ffffff"/>
                </a:solidFill>
                <a:latin typeface="Palatino Linotype"/>
              </a:rPr>
              <a:t> 1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52520" y="980640"/>
            <a:ext cx="7345440" cy="64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Times New Roman"/>
              </a:rPr>
              <a:t>Order of laws, decrees, standards for organizing the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Times New Roman"/>
              </a:rPr>
              <a:t>metrological infra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24160" y="1916280"/>
            <a:ext cx="2232000" cy="1439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Binding </a:t>
            </a:r>
            <a:r>
              <a:rPr b="0" lang="en-GB" sz="1400" spc="-1" strike="noStrike">
                <a:solidFill>
                  <a:srgbClr val="0000ff"/>
                </a:solidFill>
                <a:latin typeface="Palatino Linotype"/>
              </a:rPr>
              <a:t>regulations</a:t>
            </a: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technical and other ba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on IML Recommendation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ISO/IEC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24160" y="3716280"/>
            <a:ext cx="2160720" cy="1584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Voluntary standar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on international, reg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ff"/>
                </a:solidFill>
                <a:latin typeface="Palatino Linotype"/>
              </a:rPr>
              <a:t>and national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05600" y="2205000"/>
            <a:ext cx="1727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Administrative regul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inclu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technical regu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6880" y="4005360"/>
            <a:ext cx="1656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Generally recogniz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technical r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Palatino Linotype"/>
              </a:rPr>
              <a:t>(e.g. Kiel collection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00880" y="28526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00880" y="45086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76520" y="1413000"/>
            <a:ext cx="6913440" cy="41767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Situation in Vietnam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Vietnam´s Ordinance of metrology, No. 16/1999/PL-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UBTVQH10 approved by Standing Committee of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Vietnam National Assembly and promulgated by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Vietnam‘s Predident in year 1999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-   12 additional decrees, decisions and circulars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-   100 technical regulations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360520" y="1413000"/>
            <a:ext cx="7129440" cy="41767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Aim for the fu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   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A new Law on metrology for Vietnam will be upgraded from above mentioned Ordinance of Metrology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♦ 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taking into account the developments of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the last years and the experience in the field of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metrology in some other countries in Europe and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Asia,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♦ </a:t>
            </a:r>
            <a:r>
              <a:rPr b="0" lang="de-DE" sz="2000" spc="-1" strike="noStrike">
                <a:solidFill>
                  <a:srgbClr val="0082d6"/>
                </a:solidFill>
                <a:latin typeface="Times New Roman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facing the future (privatization, accreditation,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systems  of instruments, software, …)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0000"/>
                <a:tab algn="l" pos="717480"/>
                <a:tab algn="l" pos="10746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792520" y="1413000"/>
            <a:ext cx="6697440" cy="41767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Headlines/Articles for a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Law on Metrology on the basis of OIML D 1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Aim/subject of the Law on metrology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2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Definition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3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National metrology infrastructure/</a:t>
            </a:r>
            <a:br>
              <a:rPr sz="1600"/>
            </a:b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  National metrology policy/strategy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4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National metrology Institute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5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National measurement standard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6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Legal units of measurement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7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Legal metrology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8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Status of regulations on decrees/ordinanc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9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Requirement for measuring instrument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0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Fees/financial provision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1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Offenc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2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Fines/penalti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13. 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Coming into force/transition period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144520" y="1052280"/>
            <a:ext cx="7345080" cy="504036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1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Aim/subject of the Law on metrology: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Field of application: </a:t>
            </a:r>
            <a:br>
              <a:rPr sz="1400"/>
            </a:b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To provide the legal base and empowerments for detailed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regulations in decrees, ordinances, …</a:t>
            </a:r>
            <a:br>
              <a:rPr sz="1400"/>
            </a:b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2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Definitions: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Only main and important definitions like measurement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instruments, measurement standards, national metrology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institutions should be mentioned, reference to VIM and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OIML VIML. If possible, a sentence such as „For terms not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defined here the definition given in the VIM or VIML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respectively shall apply”.</a:t>
            </a:r>
            <a:br>
              <a:rPr sz="1400"/>
            </a:b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3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National metrology infrastructure/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National metrology policy/strategy like: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-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Support national industry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- Consumer protection, environmental protection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- International recognition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- Fair trad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15800" y="1125000"/>
            <a:ext cx="7273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Palatino Linotype"/>
              </a:rPr>
              <a:t>4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National metrology Institute (and others entrusted with th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realization of national measurement standards not availabl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at the NMI):</a:t>
            </a:r>
            <a:br>
              <a:rPr sz="1600"/>
            </a:b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Tasks, organization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5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National measurement standard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Traceability chain (SI system or equivalent) or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Certified Reference Materials</a:t>
            </a:r>
            <a:br>
              <a:rPr sz="1600"/>
            </a:b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6.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Legal units of measurement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SI, not covered by SI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Multiples and subdivisions, writing, application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Use of non legal units in historical documents</a:t>
            </a: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 and specified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82d6"/>
                </a:solidFill>
                <a:latin typeface="Palatino Linotype"/>
              </a:rPr>
              <a:t>areas (see OIML, D 1, III, 3)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89240" y="1125000"/>
            <a:ext cx="720072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7. </a:t>
            </a: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Legal metrology</a:t>
            </a:r>
            <a:br>
              <a:rPr sz="1800"/>
            </a:br>
            <a:r>
              <a:rPr b="0" lang="en-GB" sz="18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0" lang="en-GB" sz="18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Organization</a:t>
            </a:r>
            <a:br>
              <a:rPr sz="1400"/>
            </a:b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Bodies in legal metrology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Regulation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Applications</a:t>
            </a:r>
            <a:br>
              <a:rPr sz="1400"/>
            </a:b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Market inspection / surveillanc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Prepackage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Special items like precious metal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Marking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Stamps, seal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Responsibility and powers (see OIML, D 1, VI, 4)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Liability of persons and corporate bodies (see OIML, D 1,VI, 2)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8. </a:t>
            </a: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cc3300"/>
                </a:solidFill>
                <a:latin typeface="Palatino Linotype"/>
              </a:rPr>
              <a:t>Status of regulations on decrees/ordinance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Concerning organization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Essential requirement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Cooperation with other countrie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999800" y="1125000"/>
            <a:ext cx="7489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  </a:t>
            </a:r>
            <a:r>
              <a:rPr b="1" lang="en-GB" sz="1600" spc="-1" strike="noStrike">
                <a:solidFill>
                  <a:srgbClr val="cc3300"/>
                </a:solidFill>
                <a:latin typeface="Palatino Linotype"/>
              </a:rPr>
              <a:t>9. Requirement</a:t>
            </a: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 for measuring instrument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Type approval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Initial and subsequent conformity of instrument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(Initial and subsequent verification)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Conformity assessment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In service inspection, market inspection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Field surveillanc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Withdrawal from us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List of measuring instruments is subject to legal regulations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400" spc="-1" strike="noStrike">
                <a:solidFill>
                  <a:srgbClr val="0082d6"/>
                </a:solidFill>
                <a:latin typeface="Palatino Linotype"/>
              </a:rPr>
              <a:t>(or field of application)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10. Fees/financial provisions</a:t>
            </a:r>
            <a:r>
              <a:rPr b="0" lang="en-GB" sz="1800" spc="-1" strike="noStrike">
                <a:solidFill>
                  <a:srgbClr val="cc3300"/>
                </a:solidFill>
                <a:latin typeface="Palatino Linotype"/>
              </a:rPr>
              <a:t>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Different principles: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1. 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Cost recovering system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2. 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Subsidized system because of a  governmental decision 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Palatino Linotype"/>
              </a:rPr>
              <a:t>to provide consumer protection free of charge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3. </a:t>
            </a: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en-GB" sz="1400" spc="-1" strike="noStrike">
                <a:solidFill>
                  <a:srgbClr val="0082d6"/>
                </a:solidFill>
                <a:latin typeface="Times New Roman"/>
              </a:rPr>
              <a:t>Mixture of systems</a:t>
            </a: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215800" y="1125000"/>
            <a:ext cx="7273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11. Offenc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The paragraphs must be mentioned explicitely,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the non-observation of which will be penalized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12. Fines/penalti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Should be severe enough in order to prevent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repetition Publication of offenders could be a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useful means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Palatino Linotype"/>
              </a:rPr>
              <a:t>13. Coming into force/transition period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Should be long enough to avoid unacceptable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Palatino Linotype"/>
              </a:rPr>
              <a:t>high</a:t>
            </a:r>
            <a:r>
              <a:rPr b="1" lang="de-DE" sz="1800" spc="-1" strike="noStrike">
                <a:solidFill>
                  <a:srgbClr val="0082d6"/>
                </a:solidFill>
                <a:latin typeface="Times New Roman"/>
              </a:rPr>
              <a:t> financial losses and/or to allow for adequate 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800" spc="-1" strike="noStrike">
                <a:solidFill>
                  <a:srgbClr val="0082d6"/>
                </a:solidFill>
                <a:latin typeface="Times New Roman"/>
              </a:rPr>
              <a:t>adaptation to the new regulations.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649240" y="1125000"/>
            <a:ext cx="684036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Times New Roman"/>
              </a:rPr>
              <a:t>Results of my reflections (1)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National laws of metrology are unique and must always be seen in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relation to national condition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An outside consultant cannot define this law in detail, it needs nativ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metrologists and lawyer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82d6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The Law on metrology should be made as short as possible because it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needs the Parliament to change it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All necessary information and regulations, which are not defined in th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Law, should be defined in decrees, circulars, …which normally com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under the responsibility of the  Ministry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82d6"/>
              </a:buClr>
              <a:buFont typeface="Times New Roman"/>
              <a:buChar char="-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For binding technical</a:t>
            </a:r>
            <a:r>
              <a:rPr b="0" lang="de-DE" sz="1600" spc="-1" strike="noStrike">
                <a:solidFill>
                  <a:srgbClr val="0082d6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regulations OIML Recommendations should be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Times New Roman"/>
              </a:rPr>
              <a:t>used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360520" y="1628640"/>
            <a:ext cx="7129440" cy="417672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With D 1 „Elements for a Law on Metrology“ 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OIML established a guideline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Special situation in Europe: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Members of EU have to follow European Directives like 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- MID - Measurement Instrument Directive, 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(2004/22/EEC)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- Non-automatic weighing Instrument Directive   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 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 (</a:t>
            </a:r>
            <a:r>
              <a:rPr b="0" lang="en-GB" sz="2000" spc="-1" strike="noStrike">
                <a:solidFill>
                  <a:srgbClr val="0082d6"/>
                </a:solidFill>
                <a:latin typeface="Palatino Linotype"/>
              </a:rPr>
              <a:t>90/384/EEC)</a:t>
            </a:r>
            <a:br>
              <a:rPr sz="2000"/>
            </a:br>
            <a:r>
              <a:rPr b="0" lang="en-GB" sz="2000" spc="-1" strike="noStrike">
                <a:solidFill>
                  <a:srgbClr val="0082d6"/>
                </a:solidFill>
                <a:latin typeface="Palatino Linotype"/>
              </a:rPr>
              <a:t> - Medical Devices Direcive (MDD)</a:t>
            </a:r>
            <a:br>
              <a:rPr sz="2000"/>
            </a:br>
            <a:r>
              <a:rPr b="0" lang="en-GB" sz="2000" spc="-1" strike="noStrike">
                <a:solidFill>
                  <a:srgbClr val="0082d6"/>
                </a:solidFill>
                <a:latin typeface="Palatino Linotype"/>
              </a:rPr>
              <a:t> - …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446040"/>
                <a:tab algn="l" pos="892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36520" y="1052640"/>
            <a:ext cx="540072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Situation toda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Law on Metrology is a national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431800" y="1125000"/>
            <a:ext cx="7057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Results of my reflections (2)</a:t>
            </a: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Nevertheless the OIML should give an example  for minimum regulations more detailed.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This might be an outcome of today´s seminar.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431800" y="1125000"/>
            <a:ext cx="7057800" cy="49676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Palatino Linotype"/>
              </a:rPr>
              <a:t>Thank for your attention</a:t>
            </a: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Times New Roman"/>
              </a:rPr>
              <a:t>manfred.kochsiek@ptb.de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15800" y="1773000"/>
            <a:ext cx="6770520" cy="381636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Reasons: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Different history of legal metrology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Obligatory calibration of measuring instruments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Involvement of private service provider in type                                                            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approval and verification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Central or federal system (e.g. USA, Germany)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approval (= federal), verification (= states) </a:t>
            </a:r>
            <a:br>
              <a:rPr sz="2000"/>
            </a:br>
            <a:r>
              <a:rPr b="0" lang="de-DE" sz="2000" spc="-1" strike="noStrike">
                <a:solidFill>
                  <a:srgbClr val="0082d6"/>
                </a:solidFill>
                <a:latin typeface="Palatino Linotype"/>
              </a:rPr>
              <a:t>-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1" lang="de-DE" sz="2000" spc="-1" strike="noStrike">
                <a:solidFill>
                  <a:srgbClr val="0082d6"/>
                </a:solidFill>
                <a:latin typeface="Palatino Linotype"/>
              </a:rPr>
              <a:t>Organization of 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6520" y="1268280"/>
            <a:ext cx="6696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The national Laws on metrology are all different, </a:t>
            </a:r>
            <a:br>
              <a:rPr sz="1800"/>
            </a:br>
            <a:r>
              <a:rPr b="1" lang="de-DE" sz="1800" spc="-1" strike="noStrike">
                <a:solidFill>
                  <a:srgbClr val="cc3300"/>
                </a:solidFill>
                <a:latin typeface="Palatino Linotype"/>
              </a:rPr>
              <a:t>even 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44520" y="1484280"/>
            <a:ext cx="7345080" cy="410544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Most of the democratic states have the model of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separation of powers established in their constitution.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is model comprises mainly 3 branches: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e Executiv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e Legislativ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buClr>
                <a:srgbClr val="0082d6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e Judicial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Due to time constraints it is not possible to deal with this model in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2d6"/>
                </a:solidFill>
                <a:latin typeface="Palatino Linotype"/>
              </a:rPr>
              <a:t>detail, therefore in the following it is summarized in one branch 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18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800" y="404280"/>
            <a:ext cx="5329440" cy="57636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36520" y="105264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Order of laws, decrees, standards for organizing the metrological infra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4520" y="1771560"/>
            <a:ext cx="1727280" cy="93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Law on Metr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4520" y="2995560"/>
            <a:ext cx="1727280" cy="93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Decree with essent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requirements for orga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zation, procedur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measuring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4520" y="4221000"/>
            <a:ext cx="1727280" cy="93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Binding regul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technical</a:t>
            </a: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 and other based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OIML Recommend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ISO/IEC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4520" y="5445000"/>
            <a:ext cx="1727280" cy="93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Volunta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on internationa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reg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and national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6880" y="270828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76880" y="393228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76880" y="515628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36520" y="1125360"/>
            <a:ext cx="8353440" cy="64800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Order of laws, decrees, standards for organizing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the metrological infra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71920" y="2492280"/>
            <a:ext cx="2805120" cy="1871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Palatino Linotype"/>
              </a:rPr>
              <a:t>Law on Metr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28880" y="2924280"/>
            <a:ext cx="1511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Palatino Linotype"/>
              </a:rPr>
              <a:t>Scope of OIML D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18280" y="2924280"/>
            <a:ext cx="2106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Palatino Linotype"/>
              </a:rPr>
              <a:t>Parliamen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Palatino Linotype"/>
              </a:rPr>
              <a:t>General Assembly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Palatino Linotype"/>
              </a:rPr>
              <a:t>Prime Min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4880" y="404640"/>
            <a:ext cx="584820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07800" y="1125360"/>
            <a:ext cx="7289640" cy="64800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Times New Roman"/>
              </a:rPr>
              <a:t>Order of laws, decrees, standards for organizing the 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Times New Roman"/>
              </a:rPr>
              <a:t>metrological infrastructure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0" y="1989000"/>
            <a:ext cx="1800360" cy="1222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Decree with essent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requirement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organiz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procedur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measuring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0" y="3500280"/>
            <a:ext cx="1800360" cy="1079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Binding </a:t>
            </a:r>
            <a:r>
              <a:rPr b="0" lang="en-GB" sz="1200" spc="-1" strike="noStrike">
                <a:solidFill>
                  <a:srgbClr val="0000ff"/>
                </a:solidFill>
                <a:latin typeface="Palatino Linotype"/>
              </a:rPr>
              <a:t>regulations</a:t>
            </a: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technical and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based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OIML Recommendations</a:t>
            </a: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Times New Roman"/>
              </a:rPr>
              <a:t>ISO/IEC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0" y="4869000"/>
            <a:ext cx="1800360" cy="1152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Voluntary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on internationa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regio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Palatino Linotype"/>
              </a:rPr>
              <a:t>and national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89440" y="2060640"/>
            <a:ext cx="17272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Empowerments in the la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used by Responsible Minis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for detailed regul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to be observed by manufacturer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users of measuring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0" idx="2"/>
            <a:endCxn id="111" idx="0"/>
          </p:cNvCxnSpPr>
          <p:nvPr/>
        </p:nvCxnSpPr>
        <p:spPr>
          <a:xfrm>
            <a:off x="4140000" y="4579560"/>
            <a:ext cx="1080" cy="289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2"/>
            <a:endCxn id="110" idx="0"/>
          </p:cNvCxnSpPr>
          <p:nvPr/>
        </p:nvCxnSpPr>
        <p:spPr>
          <a:xfrm>
            <a:off x="4140000" y="3211560"/>
            <a:ext cx="1080" cy="289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5832360" y="3429000"/>
            <a:ext cx="16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Issued by legal metr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authorit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mainly for the e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agencies (verification procedur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reporting, conformity assess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32360" y="4940280"/>
            <a:ext cx="158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As “guidelines”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conformity assessment”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Palatino Linotype"/>
              </a:rPr>
              <a:t>testing, manufacturing,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4720" y="25653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4720" y="407664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4720" y="544500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7640" y="3716280"/>
            <a:ext cx="16484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I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97600" y="5326200"/>
            <a:ext cx="135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e.g. ISO 17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05016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2160" y="1483920"/>
            <a:ext cx="7634160" cy="28908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   </a:t>
            </a:r>
            <a:r>
              <a:rPr b="1" lang="de-DE" sz="2000" spc="-1" strike="noStrike">
                <a:solidFill>
                  <a:srgbClr val="cc3300"/>
                </a:solidFill>
                <a:latin typeface="Palatino Linotype"/>
              </a:rPr>
              <a:t>Situation in Germany today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68520" y="4005360"/>
            <a:ext cx="1800360" cy="1222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Palatino Linotype"/>
              </a:rPr>
              <a:t>Decree with essenti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Palatino Linotype"/>
              </a:rPr>
              <a:t>requirements for organi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Palatino Linotype"/>
              </a:rPr>
              <a:t>zation, procedures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ff"/>
                </a:solidFill>
                <a:latin typeface="Palatino Linotype"/>
              </a:rPr>
              <a:t>measuring instru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18320" y="2276640"/>
            <a:ext cx="1726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Verification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(under revision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Units Act and Time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(will be merg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61240" y="4005360"/>
            <a:ext cx="165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Verification Ordi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Palatino Linotype"/>
              </a:rPr>
              <a:t>(23 Appendic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13240" y="292428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3240" y="458136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97240" y="2205000"/>
            <a:ext cx="1871640" cy="1295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80000" rIns="90000" tIns="0" bIns="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Palatino Linotype"/>
              </a:rPr>
              <a:t>Law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Palatino Linotype"/>
              </a:rPr>
              <a:t>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2160" y="404640"/>
            <a:ext cx="6913440" cy="533520"/>
          </a:xfrm>
          <a:prstGeom prst="rect">
            <a:avLst/>
          </a:prstGeom>
          <a:noFill/>
          <a:ln w="0">
            <a:noFill/>
          </a:ln>
        </p:spPr>
        <p:txBody>
          <a:bodyPr lIns="36000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Palatino Linotype"/>
              </a:rPr>
              <a:t>Seminar on OIML D 1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80880" y="1341360"/>
            <a:ext cx="5472360" cy="3959280"/>
          </a:xfrm>
          <a:prstGeom prst="rect">
            <a:avLst/>
          </a:prstGeom>
          <a:noFill/>
          <a:ln w="0">
            <a:noFill/>
          </a:ln>
        </p:spPr>
        <p:txBody>
          <a:bodyPr lIns="180000" rIns="90000" tIns="0" bIns="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3300"/>
                </a:solidFill>
                <a:latin typeface="Palatino Linotype"/>
              </a:rPr>
              <a:t>These are:</a:t>
            </a:r>
            <a:endParaRPr b="1" lang="en-US" sz="12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1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Length measuring instruments (MID)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2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rea measuring instruments (MID)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3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olume measuring devices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for non-liquid products (---)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4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olume measuring devices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 for liquids at rest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5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olume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asuring devices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 for liquids other than water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(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6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olume measuring devices for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running water</a:t>
            </a:r>
            <a:r>
              <a:rPr b="1" lang="en-GB" sz="800" spc="-1" strike="noStrike">
                <a:solidFill>
                  <a:srgbClr val="808080"/>
                </a:solidFill>
                <a:latin typeface="Palatino Linotype"/>
              </a:rPr>
              <a:t>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(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7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Gas meters (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8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Weights (OIML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  9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Non-automatic weighing instruments (NSW-RL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0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utomatic weighing instruments (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1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Measuring instruments for cereals and oleaginous fruits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2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V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olume measuring instruments for laboratory purposes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3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Density measuring instruments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4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Temperature measuring instruments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5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dical measuring instruments (cancelled)</a:t>
            </a:r>
            <a:br>
              <a:rPr sz="800"/>
            </a:b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(now Medical devices having a measuring function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in accordance with the 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prescriptions of the Medical</a:t>
            </a:r>
            <a:r>
              <a:rPr b="0" lang="en-GB" sz="800" spc="-1" strike="noStrike">
                <a:solidFill>
                  <a:srgbClr val="808080"/>
                </a:solidFill>
                <a:latin typeface="Palatino Linotype"/>
              </a:rPr>
              <a:t>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Devices Users Ordinance</a:t>
            </a:r>
            <a:r>
              <a:rPr b="1" lang="en-GB" sz="800" spc="-1" strike="noStrike">
                <a:solidFill>
                  <a:srgbClr val="808080"/>
                </a:solidFill>
                <a:latin typeface="Palatino Linotype"/>
              </a:rPr>
              <a:t>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(MDD*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6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Tyre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 pressure measuring instruments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7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easuring intruments for use in dairying</a:t>
            </a:r>
            <a:r>
              <a:rPr b="1" lang="en-GB" sz="800" spc="-1" strike="noStrike">
                <a:solidFill>
                  <a:srgbClr val="808080"/>
                </a:solidFill>
                <a:latin typeface="Palatino Linotype"/>
              </a:rPr>
              <a:t>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8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asuring instruments for use in traffic (at the moment MID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19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Time meters/stop watches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20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Electricity meters (MID) 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21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Sound level meters 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22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asuring instruments for thermal energy, warm and hot water </a:t>
            </a:r>
            <a:br>
              <a:rPr sz="800"/>
            </a:b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ters for heat exchanger circuits (MID) 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Appendix 23: 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	</a:t>
            </a:r>
            <a:r>
              <a:rPr b="0" lang="de-DE" sz="800" spc="-1" strike="noStrike">
                <a:solidFill>
                  <a:srgbClr val="0082d6"/>
                </a:solidFill>
                <a:latin typeface="Palatino Linotype"/>
              </a:rPr>
              <a:t>Measuring instruments for use in r</a:t>
            </a:r>
            <a:r>
              <a:rPr b="0" lang="en-GB" sz="800" spc="-1" strike="noStrike">
                <a:solidFill>
                  <a:srgbClr val="0082d6"/>
                </a:solidFill>
                <a:latin typeface="Palatino Linotype"/>
              </a:rPr>
              <a:t>adiation protection (---)</a:t>
            </a: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82d6"/>
                </a:solidFill>
                <a:latin typeface="Times New Roman"/>
              </a:rPr>
              <a:t>* MDD    =   </a:t>
            </a:r>
            <a:r>
              <a:rPr b="0" lang="de-DE" sz="900" spc="-1" strike="noStrike">
                <a:solidFill>
                  <a:srgbClr val="0082d6"/>
                </a:solidFill>
                <a:latin typeface="Times New Roman"/>
              </a:rPr>
              <a:t>	</a:t>
            </a:r>
            <a:r>
              <a:rPr b="0" lang="de-DE" sz="900" spc="-1" strike="noStrike">
                <a:solidFill>
                  <a:srgbClr val="0082d6"/>
                </a:solidFill>
                <a:latin typeface="Times New Roman"/>
              </a:rPr>
              <a:t>Directive on Medical Products</a:t>
            </a:r>
            <a:endParaRPr b="1" lang="en-US" sz="9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9240" y="981000"/>
            <a:ext cx="7230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de-DE" sz="1600" spc="-1" strike="noStrike">
                <a:solidFill>
                  <a:srgbClr val="cc3300"/>
                </a:solidFill>
                <a:latin typeface="Times New Roman"/>
              </a:rPr>
              <a:t>Verification ordinance – General Regulations- with appendices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6:42:22Z</dcterms:created>
  <dc:creator>Sandra Saewert-Faller</dc:creator>
  <dc:description/>
  <dc:language>en-US</dc:language>
  <cp:lastModifiedBy>建河租赁</cp:lastModifiedBy>
  <cp:lastPrinted>2004-04-23T09:42:14Z</cp:lastPrinted>
  <dcterms:modified xsi:type="dcterms:W3CDTF">2007-10-22T07:03:39Z</dcterms:modified>
  <cp:revision>176</cp:revision>
  <dc:subject/>
  <dc:title>Folie 1</dc:title>
</cp:coreProperties>
</file>