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79640" y="981000"/>
            <a:ext cx="5184720" cy="2334240"/>
          </a:xfrm>
          <a:prstGeom prst="rect">
            <a:avLst/>
          </a:prstGeom>
          <a:noFill/>
          <a:ln w="0">
            <a:noFill/>
          </a:ln>
        </p:spPr>
        <p:txBody>
          <a:bodyPr lIns="0" rIns="0" tIns="0" bIns="0" anchor="ctr">
            <a:noAutofit/>
          </a:bodyPr>
          <a:p>
            <a:pPr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79640" y="981000"/>
            <a:ext cx="5184720" cy="503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379440">
              <a:spcBef>
                <a:spcPts val="601"/>
              </a:spcBef>
              <a:spcAft>
                <a:spcPts val="1199"/>
              </a:spcAft>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51000" indent="-32868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89200" indent="-3589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325600" indent="-3571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325600" indent="-3571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325600" indent="-357120">
              <a:spcBef>
                <a:spcPts val="601"/>
              </a:spcBef>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ftr" idx="1"/>
          </p:nvPr>
        </p:nvSpPr>
        <p:spPr>
          <a:xfrm>
            <a:off x="0" y="6453360"/>
            <a:ext cx="9144000" cy="404640"/>
          </a:xfrm>
          <a:prstGeom prst="rect">
            <a:avLst/>
          </a:prstGeom>
          <a:solidFill>
            <a:srgbClr val="990033"/>
          </a:solidFill>
          <a:ln w="0">
            <a:noFill/>
          </a:ln>
        </p:spPr>
        <p:txBody>
          <a:bodyPr lIns="216000" rIns="144000" tIns="126000" bIns="0" anchor="t">
            <a:noAutofit/>
          </a:bodyPr>
          <a:lstStyle>
            <a:lvl1pPr indent="0">
              <a:buNone/>
              <a:tabLst>
                <a:tab algn="l" pos="0"/>
                <a:tab algn="l" pos="8520120"/>
              </a:tabLst>
              <a:defRPr b="1" lang="fr-FR" sz="1200" spc="-1" strike="noStrike">
                <a:solidFill>
                  <a:srgbClr val="ffffff"/>
                </a:solidFill>
                <a:latin typeface="Arial"/>
              </a:defRPr>
            </a:lvl1pPr>
          </a:lstStyle>
          <a:p>
            <a:pPr indent="0">
              <a:buNone/>
              <a:tabLst>
                <a:tab algn="l" pos="0"/>
                <a:tab algn="l" pos="8520120"/>
              </a:tabLst>
            </a:pPr>
            <a:r>
              <a:rPr b="1" lang="fr-FR" sz="1200" spc="-1" strike="noStrike">
                <a:solidFill>
                  <a:srgbClr val="ffffff"/>
                </a:solidFill>
                <a:latin typeface="Arial"/>
              </a:rPr>
              <a:t>Shanghai, P.R. China, 23 October 2007</a:t>
            </a:r>
            <a:r>
              <a:rPr b="1" lang="fr-FR" sz="1200" spc="-1" strike="noStrike">
                <a:solidFill>
                  <a:srgbClr val="ffffff"/>
                </a:solidFill>
                <a:latin typeface="Arial"/>
              </a:rPr>
              <a:t>	</a:t>
            </a:r>
            <a:fld id="{59D374D0-51C6-43BB-A34A-472A0932B3BD}" type="slidenum">
              <a:rPr b="1" lang="fr-FR" sz="1200" spc="-1" strike="noStrike">
                <a:solidFill>
                  <a:srgbClr val="ffffff"/>
                </a:solidFill>
                <a:latin typeface="Arial"/>
              </a:rPr>
              <a:t>&lt;number&gt;</a:t>
            </a:fld>
            <a:endParaRPr b="0" lang="en-US" sz="1200" spc="-1" strike="noStrike">
              <a:solidFill>
                <a:srgbClr val="000000"/>
              </a:solidFill>
              <a:latin typeface="Arial"/>
            </a:endParaRPr>
          </a:p>
        </p:txBody>
      </p:sp>
      <p:sp>
        <p:nvSpPr>
          <p:cNvPr id="3" name=""/>
          <p:cNvSpPr/>
          <p:nvPr/>
        </p:nvSpPr>
        <p:spPr>
          <a:xfrm>
            <a:off x="0" y="0"/>
            <a:ext cx="9144000" cy="981000"/>
          </a:xfrm>
          <a:prstGeom prst="rect">
            <a:avLst/>
          </a:prstGeom>
          <a:solidFill>
            <a:srgbClr val="990033"/>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 1 Seminar</a:t>
            </a:r>
            <a:endParaRPr b="0" lang="en-US" sz="2400" spc="-1" strike="noStrike">
              <a:solidFill>
                <a:srgbClr val="000000"/>
              </a:solidFill>
              <a:latin typeface="Arial"/>
            </a:endParaRPr>
          </a:p>
        </p:txBody>
      </p:sp>
      <p:pic>
        <p:nvPicPr>
          <p:cNvPr id="4" name="" descr=""/>
          <p:cNvPicPr/>
          <p:nvPr/>
        </p:nvPicPr>
        <p:blipFill>
          <a:blip r:embed="rId2"/>
          <a:stretch/>
        </p:blipFill>
        <p:spPr>
          <a:xfrm>
            <a:off x="179280" y="123840"/>
            <a:ext cx="863640" cy="747720"/>
          </a:xfrm>
          <a:prstGeom prst="rect">
            <a:avLst/>
          </a:prstGeom>
          <a:ln w="0">
            <a:noFill/>
          </a:ln>
        </p:spPr>
      </p:pic>
      <p:pic>
        <p:nvPicPr>
          <p:cNvPr id="5" name="" descr=""/>
          <p:cNvPicPr/>
          <p:nvPr/>
        </p:nvPicPr>
        <p:blipFill>
          <a:blip r:embed="rId3"/>
          <a:stretch/>
        </p:blipFill>
        <p:spPr>
          <a:xfrm>
            <a:off x="7164360" y="0"/>
            <a:ext cx="1979640" cy="1484280"/>
          </a:xfrm>
          <a:prstGeom prst="rect">
            <a:avLst/>
          </a:prstGeom>
          <a:ln w="0">
            <a:noFill/>
          </a:ln>
        </p:spPr>
      </p:pic>
      <p:sp>
        <p:nvSpPr>
          <p:cNvPr id="6" name=""/>
          <p:cNvSpPr/>
          <p:nvPr/>
        </p:nvSpPr>
        <p:spPr>
          <a:xfrm>
            <a:off x="0" y="981000"/>
            <a:ext cx="1979640" cy="503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901"/>
              </a:spcBef>
              <a:spcAft>
                <a:spcPts val="45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of D 1, how to use it</a:t>
            </a:r>
            <a:endParaRPr b="0" lang="en-US" sz="3600" spc="-1" strike="noStrike">
              <a:solidFill>
                <a:srgbClr val="000000"/>
              </a:solidFill>
              <a:latin typeface="Arial"/>
            </a:endParaRPr>
          </a:p>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ean-François Maga</a:t>
            </a:r>
            <a:r>
              <a:rPr b="0" i="1" lang="en-US" sz="2400" spc="-1" strike="noStrike">
                <a:solidFill>
                  <a:srgbClr val="000000"/>
                </a:solidFill>
                <a:latin typeface="Arial"/>
                <a:ea typeface="Arial"/>
              </a:rPr>
              <a:t>ñ</a:t>
            </a:r>
            <a:r>
              <a:rPr b="0" i="1" lang="en-US" sz="2400" spc="-1" strike="noStrike">
                <a:solidFill>
                  <a:srgbClr val="000000"/>
                </a:solidFill>
                <a:latin typeface="Arial"/>
              </a:rPr>
              <a:t>a, BIML Dir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ts of the Law</a:t>
            </a:r>
            <a:endParaRPr b="1" lang="en-US" sz="2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the 60's, the metre was defined as a multiple of the wavelength in the vacuum,of the radiation emitted between two levels of an atom.</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w the metre is defined as a distance runned by light in the vacuum in a given fraction of a second.</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all we ask the Parliament to discuss and to vote th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ts of the Law</a:t>
            </a:r>
            <a:endParaRPr b="1" lang="en-US" sz="2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bmitting scientific or technical details to the Parliament is the best way to bore them.</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d in any case, you know what you send to the Parliament, you never know what will come out.</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ill they vote or amend the laws of Physics ? This occured in the 19th Centur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tents of the Law</a:t>
            </a:r>
            <a:endParaRPr b="1" lang="en-US" sz="2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set general principles, obligations, general criteria of exemptions, it should define the powers, responsibilities, penalties, and the mechanisms for funding,</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delegate technical details to administrative regulations (government acts, ministerial acts, technical decisions of appropriate bod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xample : Legal Units</a:t>
            </a:r>
            <a:endParaRPr b="1" lang="en-US" sz="2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define Legal Units a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SI as defined by the Metre Convention bodies (Treaties have a higher statute than laws), and if necessar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ustomary Units, subject to certain criteria concerning their necessit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then charge an authority to keep all this updated and to publish all necessary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ther example: Traceability</a:t>
            </a:r>
            <a:endParaRPr b="1" lang="en-US" sz="2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say that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ceability should be traceability to SI,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rough realizations of the SI Units, in the country or in other countrie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acceptable routes for traceability to realizations of the SI Units are defined by a decision of a designated authorit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should also say that in all existing laws and regulations, any requirement for traceability to national standards is replaced by these provi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eed to consult lawyers</a:t>
            </a:r>
            <a:endParaRPr b="1" lang="en-US" sz="2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must comply with the Constitu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is needs a careful analysis by appropriate specialists of the Constitu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most countries a special jurisdiction is competent to examine such constitutional problems. This jurisdiction should be consulted and should be very active in the preparation of the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stitution - examples</a:t>
            </a:r>
            <a:endParaRPr b="1" lang="en-US" sz="2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hen revising the French Government act on legal metrology, it was envisaged to say that:</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ighing instruments of Class IIII used in trade should be limited to products of unit price under a certain limit. Above this limit, Class III should be used.</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rding to the Constitution, this would have needed a law, a Government act could authorize or forbid Class IIII, but not limit its use. If sand can be sold with Class IIII instruments, gold can also be sold with Class IIII instrument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rtunately no one would buy gold under these cond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stitution - examples</a:t>
            </a:r>
            <a:endParaRPr b="1" lang="en-US" sz="2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trology or weights and measures are sometimes mentioned in the Constituti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may be a prerogative of States and not fall under Federal law</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this case the law should only address what the Constitution allows it to addr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icity of metrology</a:t>
            </a:r>
            <a:endParaRPr b="1" lang="en-US" sz="2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trology is a whole.</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very close cooperation between scientific metrology and legal metrology is necessar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single institute is advisable, providing that both branches of metrology are treated with equity.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oth missions and their specialists should be paid the same attenti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f two institutes exist, they should have tight li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issues</a:t>
            </a:r>
            <a:endParaRPr b="1" lang="en-US" sz="2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etrology is globalizing, at Regional and international level.</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WTO TBT and SPS Agreements call their signatories to cooperate in the different international standard-setting activities and in the different international acceptance and recognition system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must formally authorize the authorities and institutes to run such cooperations and to participate in these international acceptance and recognition sche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cope of the intended law</a:t>
            </a:r>
            <a:endParaRPr b="1" lang="en-US" sz="2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epends 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awareness and the commitment of the Minister who presents this law,</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is influence in the Governmen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cooperation with other concerned Department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eeds a </a:t>
            </a:r>
            <a:r>
              <a:rPr b="1" lang="fr-FR" sz="2400" spc="-1" strike="noStrike">
                <a:solidFill>
                  <a:srgbClr val="000000"/>
                </a:solidFill>
                <a:latin typeface="Arial"/>
              </a:rPr>
              <a:t>good preliminary concertation</a:t>
            </a:r>
            <a:r>
              <a:rPr b="0" lang="fr-FR" sz="2400" spc="-1" strike="noStrike">
                <a:solidFill>
                  <a:srgbClr val="000000"/>
                </a:solidFill>
                <a:latin typeface="Arial"/>
              </a:rPr>
              <a:t> with all concerned Depar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 most countries, in Legal Metrology, </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indings about infringements are the responsibility of State officer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ciding penalties is the responsibility of judicial authorities (under a certain level it may be administrative penaltie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is cannot be privatiz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ird part private bodies may be authorized to assess and declare the conformity of measuring instruments or of measurement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ir responsibility must be very clear,</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ir competence and impartiality must be guarantee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must be liable,</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must be controlled and supervise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remaining responsibility of the owner and user of the instrument must be cl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cond party conformity assessment may also be considered (manufacturer's declaration of conformit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ditions must be carefully studie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ppropriate supervision and surveillance must be exe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se of the private sector</a:t>
            </a:r>
            <a:endParaRPr b="1" lang="en-US" sz="2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 a conclusion, in all cases, the national legal metrology authority must keep a good command and control of the whole legal metrology system and of its efficiency, with regards to the objectives of legal metrolog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authorities in charge of metrology must be able to report on the results of their policy and of their action, before the Government and before the Parlia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t the difference of the old version of D 1, the present document is not anymore a "Model Law".</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 1 gives a number of possible provisions which have to be discussed with all stakeholders and with legal advisor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 essential phase is the concertation that should be done before writing a draft law. During this concertation, two phases should be carried ou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planations about metrology and about the need for a better metrology infrastructure,</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scussion about the options to sel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OIML and the BIML will do all efforts to bring support to countries who start such a national concerta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Legal Metrology Organizations will probably also be ready to bring such support.</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 number of work projects are being envisaged in the OIML to elaborate publications addressing specific issues such as which consistent set of conformity assessment procedures for legal metrology may be considered by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ctr">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Thank you for your attention.</a:t>
            </a:r>
            <a:endParaRPr b="0" lang="en-US" sz="4000" spc="-1" strike="noStrike">
              <a:solidFill>
                <a:srgbClr val="000000"/>
              </a:solidFill>
              <a:latin typeface="Arial"/>
            </a:endParaRPr>
          </a:p>
          <a:p>
            <a:pPr indent="0">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cope of the intended law</a:t>
            </a:r>
            <a:endParaRPr b="1" lang="en-US" sz="2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wider, the bes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ut may be limited, for example to Weights and Measures Control, </a:t>
            </a:r>
            <a:endParaRPr b="0" lang="en-US" sz="2400" spc="-1" strike="noStrike">
              <a:solidFill>
                <a:srgbClr val="000000"/>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nd</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eights and Measures control may cover only a number of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cope of the intended law</a:t>
            </a:r>
            <a:endParaRPr b="1" lang="en-US" sz="2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However it must be reminded that a </a:t>
            </a:r>
            <a:r>
              <a:rPr b="1" lang="fr-FR" sz="2400" spc="-1" strike="noStrike">
                <a:solidFill>
                  <a:srgbClr val="000000"/>
                </a:solidFill>
                <a:latin typeface="Arial"/>
              </a:rPr>
              <a:t>consistent</a:t>
            </a:r>
            <a:r>
              <a:rPr b="0" lang="fr-FR" sz="2400" spc="-1" strike="noStrike">
                <a:solidFill>
                  <a:srgbClr val="000000"/>
                </a:solidFill>
                <a:latin typeface="Arial"/>
              </a:rPr>
              <a:t> system should include </a:t>
            </a:r>
            <a:r>
              <a:rPr b="1" lang="fr-FR" sz="2400" spc="-1" strike="noStrike">
                <a:solidFill>
                  <a:srgbClr val="000000"/>
                </a:solidFill>
                <a:latin typeface="Arial"/>
              </a:rPr>
              <a:t>all components</a:t>
            </a:r>
            <a:r>
              <a:rPr b="0" lang="fr-FR" sz="2400" spc="-1" strike="noStrike">
                <a:solidFill>
                  <a:srgbClr val="000000"/>
                </a:solidFill>
                <a:latin typeface="Arial"/>
              </a:rPr>
              <a:t> of metrology:</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efinition of Unit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Metrology Institute, national references and research,</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ceability, transfer to user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ole of accreditation,</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ulations on measurements and on measuring instr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ll Departments interested in metrology and in measurements should be consulted and should participate in the preparation of the law:</a:t>
            </a:r>
            <a:endParaRPr b="0" lang="en-US" sz="24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earch and Technology,</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mestic Trade,</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xternal trade,</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umer protection,</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afety of products, road safety</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griculture and Food</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ealth,</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vironment,</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conomy and finance,</a:t>
            </a:r>
            <a:endParaRPr b="0" lang="en-US" sz="2000" spc="-1" strike="noStrike">
              <a:solidFill>
                <a:srgbClr val="000000"/>
              </a:solidFill>
              <a:latin typeface="Arial"/>
            </a:endParaRPr>
          </a:p>
          <a:p>
            <a:pPr lvl="1" marL="743040" indent="-37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ll these Departments should be convinced tha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ch a law will benefit to their missions,</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y will not lose any power,</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law will improve the efficiency of the economy and facilitate their work,</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organization set up by the law will not add unacceptable costs to the State budget,</a:t>
            </a:r>
            <a:endParaRPr b="0" lang="en-US" sz="2400" spc="-1" strike="noStrike">
              <a:solidFill>
                <a:srgbClr val="000000"/>
              </a:solidFill>
              <a:latin typeface="Arial"/>
            </a:endParaRPr>
          </a:p>
          <a:p>
            <a:pPr lvl="1" marL="743040" indent="-37944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costs for stakeholders (industry, agriculture, consumers, etc.) will not be unaccep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or this, an </a:t>
            </a:r>
            <a:r>
              <a:rPr b="1" lang="fr-FR" sz="2400" spc="-1" strike="noStrike">
                <a:solidFill>
                  <a:srgbClr val="000000"/>
                </a:solidFill>
                <a:latin typeface="Arial"/>
              </a:rPr>
              <a:t>interministerial Seminar on Metrology</a:t>
            </a:r>
            <a:r>
              <a:rPr b="0" lang="fr-FR" sz="2400" spc="-1" strike="noStrike">
                <a:solidFill>
                  <a:srgbClr val="000000"/>
                </a:solidFill>
                <a:latin typeface="Arial"/>
              </a:rPr>
              <a:t>, addressed to the appropriate technical services of the different ministries, could be useful:</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senting the stakes of metrology,</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wing the weaknesses of the present situation,</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howing examples from other countries,</a:t>
            </a:r>
            <a:endParaRPr b="0" lang="en-US" sz="2400" spc="-1" strike="noStrike">
              <a:solidFill>
                <a:srgbClr val="000000"/>
              </a:solidFill>
              <a:latin typeface="Arial"/>
            </a:endParaRPr>
          </a:p>
          <a:p>
            <a:pPr lvl="1" marL="727920" indent="-371520">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senting the work of the Regional and International Organizations in the field of Metrology.</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uch a concertation should be approved and encouraged at the level of the Gover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decision to draw up a new Law should result from this concertation and should be approved at Governmental level (typically by a decision of the Council of Minister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intended scope of the law to prepare will result from this concertation and should be agreed by the concerned Departments.</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he elements of D 1 which will be used result from this concertation and from legal aspects described fur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79640" y="981000"/>
            <a:ext cx="5184720" cy="503280"/>
          </a:xfrm>
          <a:prstGeom prst="rect">
            <a:avLst/>
          </a:prstGeom>
          <a:solidFill>
            <a:srgbClr val="bbe0e3"/>
          </a:solid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eliminary concertation</a:t>
            </a:r>
            <a:endParaRPr b="1" lang="en-US" sz="2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f course an autoritary decision of the Head of the State, of the Parliament or of a Commission of the Parliament may be taken without such a concertation,</a:t>
            </a:r>
            <a:endParaRPr b="0" lang="en-US" sz="2400" spc="-1" strike="noStrike">
              <a:solidFill>
                <a:srgbClr val="000000"/>
              </a:solidFill>
              <a:latin typeface="Arial"/>
            </a:endParaRPr>
          </a:p>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ut in this case a lack of cooperation of different ministries would be probable and this would compromise the success of the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0T05:23:21Z</dcterms:created>
  <dc:creator>Magana</dc:creator>
  <dc:description/>
  <dc:language>en-US</dc:language>
  <cp:lastModifiedBy>Magana</cp:lastModifiedBy>
  <dcterms:modified xsi:type="dcterms:W3CDTF">2007-10-20T08:10:09Z</dcterms:modified>
  <cp:revision>12</cp:revision>
  <dc:subject/>
  <dc:title>Diapositive 1</dc:title>
</cp:coreProperties>
</file>